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EE8C-1132-4D99-9753-AEAFE6D01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DD05-3FD5-4ABE-854E-E048B4C5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852A-117D-4484-9CA9-EDE286452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1512-FF9C-4CE0-9A64-91F4A9914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0E27-2C14-4B2A-ADEB-7EAF1FBF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3A70-B053-4143-B5E9-C2C82633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5A39-ECB4-4810-BA15-321A9EB7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3F10-13D1-431E-B78C-CE2D3763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DC56-EA32-47A0-93E1-F8334993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DF23-B7CA-4F7F-AE53-914B396E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BE1F-EE01-415E-973F-B758830A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0C2E-DD7C-4202-A6CF-C65AC25E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7A4D-4C75-4575-92E2-E13AF9CA9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Baptism: question to con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Friends in Chr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ill you promise to maintain a lif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of worship and teachi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itness and serv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so that N</a:t>
            </a:r>
            <a:r>
              <a:rPr b="0" i="1" lang="en-A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may grow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o maturity in Chri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 God’s help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will live out our bapt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s a loving community in Chris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urturing one another in fait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upholding one another in pray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encouraging one anoth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servic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until Christ co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3:25:44Z</dcterms:created>
  <dc:creator>Anon Anon</dc:creator>
  <dc:description/>
  <dc:language>en-US</dc:language>
  <cp:lastModifiedBy>Anon Anon</cp:lastModifiedBy>
  <dcterms:modified xsi:type="dcterms:W3CDTF">2005-08-09T05:36:22Z</dcterms:modified>
  <cp:revision>10</cp:revision>
  <dc:subject/>
  <dc:title>PowerPoint Presentation</dc:title>
</cp:coreProperties>
</file>